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12.jpeg" ContentType="image/jpeg"/>
  <Override PartName="/ppt/media/cashreg.wav" ContentType="audio/x-wav"/>
  <Override PartName="/ppt/media/image4.jpeg" ContentType="image/jpeg"/>
  <Override PartName="/ppt/media/image1.jpeg" ContentType="image/jpeg"/>
  <Override PartName="/ppt/media/projctor.wav" ContentType="audio/x-wav"/>
  <Override PartName="/ppt/media/image2.jpeg" ContentType="image/jpeg"/>
  <Override PartName="/ppt/media/drumroll.wav" ContentType="audio/x-wav"/>
  <Override PartName="/ppt/media/image3.jpeg" ContentType="image/jpeg"/>
  <Override PartName="/ppt/media/ricochet.wav" ContentType="audio/x-wav"/>
  <Override PartName="/ppt/media/clap.wav" ContentType="audio/x-wav"/>
  <Override PartName="/ppt/media/chimes.wav" ContentType="audio/x-wav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FD6-2733-4403-9663-A57DCB37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A1A-834E-4159-AB9B-701875AF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F11B-67ED-4923-BF7D-5EFA49A6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45ED-3383-4861-8410-EA32FAC1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8751-F314-4ADB-8891-E27CD3BA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AC6-7438-4500-8A8C-58B7FAA7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5A9B-E47F-4262-B014-6AAAEF2D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F1C4-ADA3-4098-A497-C910AA01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4A9F-270E-4B14-8BDD-E56A5C27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198F-B2BC-4F1E-B378-71A9AEC9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694-449D-45FC-8DD3-EF409108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3FB7-FBFF-4C22-A505-3D0B5938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6A4F-9DAA-4893-8BF9-2453D5CF4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762120"/>
            <a:ext cx="5029200" cy="228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"/>
              </a:rPr>
              <a:t>WASHINGTON D.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"/>
              </a:rPr>
              <a:t>OUR NATION’S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21932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"/>
              </a:rPr>
              <a:t>Smithsonian museums</a:t>
            </a:r>
            <a:br>
              <a:rPr sz="4400"/>
            </a:br>
            <a:r>
              <a:rPr b="0" lang="en-US" sz="4400" spc="-1" strike="noStrike">
                <a:solidFill>
                  <a:srgbClr val="cc6600"/>
                </a:solidFill>
                <a:latin typeface="comic"/>
              </a:rPr>
              <a:t>MALL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828800" y="-914400"/>
            <a:ext cx="10972800" cy="7772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0" y="-533520"/>
            <a:ext cx="6921360" cy="1557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lbertus Extra Bold"/>
              </a:rPr>
              <a:t>The National Shrin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larendon Condensed"/>
              </a:rPr>
              <a:t>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larendon Condensed"/>
              </a:rPr>
              <a:t>IMMACULATE CONCE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VIETNAM MEM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tnam Veterans Memorial is a wall shaped like a “V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5,000 Americans,  who were killed in Vietnam, have their names engraved on the w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IWOA JI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ine Corps War Memo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sing of the Flag on Mount Suribachi during W.W. I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ttle won in194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Marines and a Navy hospital corpsman raised the U.S. fla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49160" y="1981080"/>
            <a:ext cx="3683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WASHINGTON MON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NUMENT HONORS A SPECIAL PERSON OR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HINGTON MONUMENT HONORS GEORGE WASHINGTON, OUR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99"/>
                </a:solidFill>
                <a:latin typeface="comic"/>
              </a:rPr>
              <a:t>JEFFERSON MEMOR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ial to Thomas Jefferson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 of the Declaration of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d in 1943, 2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niversary of his bi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2236680"/>
            <a:ext cx="419076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"/>
              </a:rPr>
              <a:t>LINCOLN MEM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nors Abraham Lincoln, our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ettysburg Address is engraved on the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 marble columns and 56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7080" y="1523880"/>
            <a:ext cx="3738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comic"/>
              </a:rPr>
              <a:t>OUR CAPITO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Capitol Building has a large d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Congress makes the laws for our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100 Senators – 2 from each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440 members  of the the House  of Represent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2476440"/>
            <a:ext cx="38098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ff"/>
                </a:solidFill>
                <a:latin typeface="comic"/>
              </a:rPr>
              <a:t>SUPREME COU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ighest court  in the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ttles questions about the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9 Justices –serve in their job as long as they w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ustice is chosen by the President, approved by the Se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2654280"/>
            <a:ext cx="38098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90720" y="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66ff"/>
                </a:solidFill>
                <a:latin typeface="comic"/>
              </a:rPr>
              <a:t>WHITE HOUS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22860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comic"/>
              </a:rPr>
              <a:t>WHITE HOUSE TOU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772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"/>
              </a:rPr>
              <a:t>SMITHSON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mes Smithson was an Englishman dedicated to lear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mithsonian Institute founded in 1829 with the Cast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 there are many Museums to se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7:12:20Z</dcterms:created>
  <dc:creator>PC04</dc:creator>
  <dc:description/>
  <dc:language>en-US</dc:language>
  <cp:lastModifiedBy>lyerkes</cp:lastModifiedBy>
  <dcterms:modified xsi:type="dcterms:W3CDTF">2011-05-24T18:22:13Z</dcterms:modified>
  <cp:revision>5</cp:revision>
  <dc:subject/>
  <dc:title>PowerPoint Presentation</dc:title>
</cp:coreProperties>
</file>